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11.png" ContentType="image/png"/>
  <Override PartName="/ppt/media/image6.wmf" ContentType="image/x-wmf"/>
  <Override PartName="/ppt/media/image16.wmf" ContentType="image/x-wmf"/>
  <Override PartName="/ppt/media/image8.png" ContentType="image/png"/>
  <Override PartName="/ppt/media/image5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399-6F6D-4CAB-802F-A8DE2AD2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224-6356-4611-A1B9-105B3503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E97-9AB3-4BCE-8558-EABB9AD1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8FB-9CF7-4570-846E-47978466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824-6BB9-4E0E-BC53-27E207CE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3F8-8ECC-4298-A377-CD12F21C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35B-2B25-45E2-B7F3-892FF4F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EBC-7DB4-4178-8037-D6D9D4D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20E-5286-495F-A9E1-34B5FDE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7BE-C565-4AA1-85DC-4F9DB2C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A78-4FDF-4AD1-AC33-5209AF7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8BC-DF4F-4ACC-8ECC-0D3818F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0DB-F85B-4BA6-ABC9-E428E8052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8:  Linear Re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.P. 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tterplot of Math and Verbal SAT scores with correct LSR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400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523224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st-Squares Regression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e Can Find the LSRL For Three Differen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z-Scores of Real Data (Standardizing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Summary Statistics of Data (mean and standard dev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Re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8160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4038480" cy="30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38862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 Using z-Scores of Re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SRL passes throu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SRL equation i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oving one standard deviation from the mean 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x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e can expect to move about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standard deviations from the mean 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.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50496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48888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772400" y="1523880"/>
            <a:ext cx="380880" cy="544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238880" y="2819520"/>
            <a:ext cx="1371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 Using z-Scores of Real Data (Interpret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672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SRL of scatterpl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very standard deviation above (below) the mean a sandwich is in protein, we’ll predict that that its fat content is 0.83 standard deviations above (below) the me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81640" cy="4748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2567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Using Summary Statistics of Da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98124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609480" y="4191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te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6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1081080" cy="76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1143000" cy="8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52480" y="5562720"/>
            <a:ext cx="990720" cy="33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562720" y="1295280"/>
            <a:ext cx="2133360" cy="6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553080" y="1905120"/>
            <a:ext cx="1905120" cy="78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715000" y="2743200"/>
            <a:ext cx="1447920" cy="184788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14"/>
          <p:cNvSpPr/>
          <p:nvPr/>
        </p:nvSpPr>
        <p:spPr>
          <a:xfrm>
            <a:off x="5562720" y="2666880"/>
            <a:ext cx="304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16"/>
          <p:cNvSpPr/>
          <p:nvPr/>
        </p:nvSpPr>
        <p:spPr>
          <a:xfrm>
            <a:off x="5715000" y="4648320"/>
            <a:ext cx="3048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562720" y="5029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SRL Equ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Using Summary Statistics of Data (Interpret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343400" cy="311796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9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4038480" cy="566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5105520" y="1447920"/>
            <a:ext cx="335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One additional gram of protein is associated with an additional 0.97 grams of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-intercep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tem that has zero grams of protein will have 6.8 grams of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21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WAYS CHECK TO SEE IF Y-INTERCEPT MAKES SENSE IN THE CONTEXT OF THE PROBLEM AN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SRL: Using Summary Statistics of Data (Interpret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Text Placeholder 2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62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echnology to get the LSRL.  Making sure you check your condit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erties of the L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act that the Sum of Squared Errors (SSE, same as Least Squared Sum)is as small as possible means that for this l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m and mean of the residuals is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riation in the residuals is as small as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e contains the point of aver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4800600"/>
            <a:ext cx="8380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a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a scatterplot allows you to describe the relationship between the two quantitative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sometimes it is much more useful to use that linear relationship to predict or estimate information based on that real data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ke those predictions and esti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umptions and Conditions for using LSR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Quantitative Variable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Straight Enough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f not—re-express (Chapter 1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Outlier Cond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th and withou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4565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 and L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s should be used to see if a linear model is appropri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s are the part of the data that has not been modeled in our linear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43400" cy="330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7432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 and L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1426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to Look for in a Residual Plot to Satisfy Straight Enough Cond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patterns, no interesting features (like direction or shape), should stretch horizontally with about same scatter throughout, no bends or outlier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stribution of residuals should be symmetric if the original data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aight enou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330192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0" y="358128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oking at a scatterplot of the residuals vs.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value is a good way to check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ight Enough Cond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determines if a linear model i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, a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5002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284880" y="3124080"/>
            <a:ext cx="2706840" cy="183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6248520" y="1066680"/>
            <a:ext cx="270180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814480" cy="190476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11"/>
          <p:cNvCxnSpPr/>
          <p:nvPr/>
        </p:nvCxnSpPr>
        <p:spPr>
          <a:xfrm flipV="1">
            <a:off x="4191120" y="1599480"/>
            <a:ext cx="4420080" cy="1067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3" name="Straight Arrow Connector 13"/>
          <p:cNvCxnSpPr/>
          <p:nvPr/>
        </p:nvCxnSpPr>
        <p:spPr>
          <a:xfrm>
            <a:off x="4191120" y="2666880"/>
            <a:ext cx="4420080" cy="1829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812880"/>
            <a:ext cx="60962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33520" y="506520"/>
            <a:ext cx="73911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8487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raw a scatterplot of the data.  Comment on what you see.  (Satisfy Quantitative Data Conditio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, strength,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usual Points, Dev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on General Variable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mput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.  Comment on what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means in context and if it is appropriate to use (does the relationship seem linear—Straight Enough Conditio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ind the LSR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eck all three cond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ntitative Data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aight Enough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tlier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a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mal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us to make predictions and estimations about the population and future ev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 of real 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long as that data has a nearly symmetric distrib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us to make predictions and estimations about the population and future ev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 of real 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long as that data has a linear relationship between two quantitative vari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I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raw a residual plot and interpret it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-is the linear model appropriat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erpret slope in contex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erpret th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intercept in contex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mplete Linear Regression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 V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ute R-Square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  Interpret the value and use as a measure for the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ccuracy of the model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“How well does the model predict?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-Squ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value will determine how accurate the linear model is predicting your y-values from you x-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written as a perc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, literally, your r-value squa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-Squared 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Regression analysis has an R-squared value of 97%, that means the model does an excellent job predicting the y-values in your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interpret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97% of the variation is y can be accounted for by the variation is x, on averag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-Squared 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other ways to write that interpre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can be thought of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much error was eliminated in our predictions if we used the LSRL instead of a guess 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Text Placeholder 2"/>
              <p:cNvSpPr txBox="1"/>
              <p:nvPr/>
            </p:nvSpPr>
            <p:spPr>
              <a:xfrm>
                <a:off x="6705720" y="4114800"/>
                <a:ext cx="35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ear Model and the Least Squared Regression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ake this model, we need to find a line of best 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ine of best fit is the “predictor line” and will be the way we predict or estimate our response variable, given our explanatory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ine has to do with how well it minimize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idu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iduals and the Least Squares Regression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sidu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the difference between the observed value and the predicted valu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tells us how far off the model’s prediction is at that poi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gative residual:  predicted value is too big (overesti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itive residual:  predicted value is too small (underesti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10120" y="1447920"/>
            <a:ext cx="5033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943600" cy="527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228600"/>
            <a:ext cx="3249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st Squares Regression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SRL attempts to find a line where the sum of the squared residuals are the small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not just find a line where the sum of the residuals is the small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of residuals will always be ze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quaring residuals, we get all positive values, which can be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hasizes the large residuals—which have a big impact on the correlation and the regression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tterplot of Math and Verbal SAT sc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tterplot of Math and Verbal SAT scores with incorrect LSR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2:37:17Z</dcterms:created>
  <dc:creator>fmasinmoyer</dc:creator>
  <dc:description/>
  <dc:language>en-US</dc:language>
  <cp:lastModifiedBy> </cp:lastModifiedBy>
  <dcterms:modified xsi:type="dcterms:W3CDTF">2010-02-22T06:41:00Z</dcterms:modified>
  <cp:revision>51</cp:revision>
  <dc:subject/>
  <dc:title>Chapter 8:  Linear Regression—Part A</dc:title>
</cp:coreProperties>
</file>